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801F819-F4F4-465D-A8F7-F53C51FE6F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AD8C13-67BD-4B7E-8A44-AE9FFE3B725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C990-6168-4388-BE1C-CD1DA8FD2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3EE0-E2D1-4681-96CF-C32065B06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097F-ADCA-4898-925B-6DF2DABE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E40D-3F31-472F-8019-75678D95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C58B-AB34-403A-94F9-18E341E6E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A036-246C-4D80-8E89-1510D928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29786-E938-44EE-B04A-D836BD23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B0A5D-C539-45A3-A08F-6FD8643A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F9CF-9AB4-4F07-99FF-0140ED7C0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7157-74C1-43BF-88D4-2642C1992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3F94-FADE-4AA2-BBBA-65F020DAB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9751-1DD1-4D56-BDC0-F3F6556C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6958-AD22-48D9-914C-9666A58F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D0AF3-663E-4D32-BEBA-68773D7A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E7555-6A27-4CA7-8E06-8D258AB5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5D57-4D46-4F50-8D10-6F70A6640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506560" y="160020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506560" y="3964320"/>
            <a:ext cx="240408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0E7B0-0144-47FE-BEC6-DE9AB2A99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A72A-370C-43DF-8C78-83C2E0DE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8694-08A2-4EA0-86AF-7000B136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CB2B-B672-42A5-927C-9E63D56BB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746712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E5B1-0ED6-49F4-888D-3342490C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C9C0-D99E-45D8-9373-A287EFC9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836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D288-39FA-4DF1-8792-15523F11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836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74671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C34-747D-4387-B008-E7D09A43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9190c"/>
            </a:gs>
            <a:gs pos="100000">
              <a:srgbClr val="8c7470"/>
            </a:gs>
          </a:gsLst>
          <a:lin ang="12996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 hidden="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 hidden="1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Freeform 6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6105600" y="0"/>
            <a:ext cx="3038040" cy="6857640"/>
          </a:xfrm>
          <a:custGeom>
            <a:avLst/>
            <a:gdLst>
              <a:gd name="textAreaLeft" fmla="*/ 0 w 3038040"/>
              <a:gd name="textAreaRight" fmla="*/ 3038400 w 30380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29120" y="3337560"/>
            <a:ext cx="6479640" cy="230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4600" spc="-1" strike="noStrike" cap="all">
                <a:solidFill>
                  <a:srgbClr val="8dcfe9"/>
                </a:solidFill>
                <a:latin typeface="Franklin Gothic Book"/>
              </a:rPr>
              <a:t>Click to edit Master title sty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aa494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ECBBF8-3549-4960-83E5-990C8C1D0169}" type="slidenum">
              <a:rPr b="0" lang="en-US" sz="1000" spc="-1" strike="noStrike">
                <a:solidFill>
                  <a:srgbClr val="aaa49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27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11"/>
          <p:cNvSpPr/>
          <p:nvPr/>
        </p:nvSpPr>
        <p:spPr>
          <a:xfrm>
            <a:off x="0" y="4752000"/>
            <a:ext cx="9143640" cy="2112480"/>
          </a:xfrm>
          <a:custGeom>
            <a:avLst/>
            <a:gdLst/>
            <a:ahLst/>
            <a:rect l="l" t="t" r="r" b="b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chemeClr val="bg1">
              <a:tint val="80000"/>
              <a:satMod val="200000"/>
              <a:alpha val="45000"/>
            </a:schemeClr>
          </a:solidFill>
          <a:ln w="9525">
            <a:noFill/>
          </a:ln>
          <a:effectLst>
            <a:outerShdw algn="ctr" blurRad="50760" dir="16200000" dist="4428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7315200" y="0"/>
            <a:ext cx="1828440" cy="6857640"/>
          </a:xfrm>
          <a:custGeom>
            <a:avLst/>
            <a:gdLst>
              <a:gd name="textAreaLeft" fmla="*/ 0 w 1828440"/>
              <a:gd name="textAreaRight" fmla="*/ 1828800 w 1828440"/>
              <a:gd name="textAreaTop" fmla="*/ 0 h 6857640"/>
              <a:gd name="textAreaBottom" fmla="*/ 6858000 h 685764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chemeClr val="bg1">
              <a:tint val="90000"/>
              <a:satMod val="350000"/>
              <a:alpha val="40000"/>
            </a:schemeClr>
          </a:solidFill>
          <a:ln w="9525">
            <a:noFill/>
          </a:ln>
          <a:effectLst>
            <a:outerShdw algn="ctr" blurRad="50760" dir="10800000" dist="507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67120" cy="114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Master title style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712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20480" indent="-3841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"/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Master text sty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520" indent="-274320">
              <a:lnSpc>
                <a:spcPct val="100000"/>
              </a:lnSpc>
              <a:spcBef>
                <a:spcPts val="519"/>
              </a:spcBef>
              <a:buClr>
                <a:srgbClr val="3891a7"/>
              </a:buClr>
              <a:buSzPct val="9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5596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SzPct val="85000"/>
              <a:buFont typeface="Arial"/>
              <a:buChar char="○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280160" indent="-23760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SzPct val="90000"/>
              <a:buFont typeface="Wingdings 2" charset="2"/>
              <a:buChar char="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49040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Arial"/>
              <a:buChar char="-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7200" y="64220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0" anchor="b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aaa494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4220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153280" y="64220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aaa494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4A935E-E8F5-47AF-896F-B37BF8102186}" type="slidenum">
              <a:rPr b="0" lang="en-US" sz="1000" spc="-1" strike="noStrike">
                <a:solidFill>
                  <a:srgbClr val="aaa494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8631"/>
            </a:gs>
            <a:gs pos="100000">
              <a:srgbClr val="400040"/>
            </a:gs>
          </a:gsLst>
          <a:lin ang="12996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"/>
          <p:cNvSpPr/>
          <p:nvPr/>
        </p:nvSpPr>
        <p:spPr>
          <a:xfrm>
            <a:off x="42120" y="0"/>
            <a:ext cx="90781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chemeClr val="accent3"/>
                </a:solidFill>
                <a:latin typeface="Arial"/>
              </a:rPr>
              <a:t>Les Habitats Particulie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chemeClr val="accent3"/>
                </a:solidFill>
                <a:latin typeface="Arial"/>
              </a:rPr>
              <a:t>dans le Mond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5105520" y="3200400"/>
            <a:ext cx="4876560" cy="1919880"/>
          </a:xfrm>
          <a:prstGeom prst="rect">
            <a:avLst/>
          </a:prstGeom>
          <a:noFill/>
          <a:ln w="0">
            <a:noFill/>
          </a:ln>
          <a:effectLst>
            <a:glow rad="63360">
              <a:srgbClr val="9b4200">
                <a:alpha val="40000"/>
              </a:srgbClr>
            </a:glow>
          </a:effectLst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d7195d"/>
                </a:solidFill>
                <a:latin typeface="Arial"/>
              </a:rPr>
              <a:t>Ninu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d7195d"/>
                </a:solidFill>
                <a:latin typeface="Arial"/>
              </a:rPr>
              <a:t>Teodor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http://www.harunyahya.org/duvarkagidi/1024x768/races.jpg"/>
          <p:cNvPicPr/>
          <p:nvPr/>
        </p:nvPicPr>
        <p:blipFill>
          <a:blip r:embed="rId1"/>
          <a:stretch/>
        </p:blipFill>
        <p:spPr>
          <a:xfrm>
            <a:off x="304920" y="2286000"/>
            <a:ext cx="6095520" cy="4571640"/>
          </a:xfrm>
          <a:prstGeom prst="rect">
            <a:avLst/>
          </a:prstGeom>
          <a:ln w="0">
            <a:noFill/>
          </a:ln>
          <a:effectLst>
            <a:glow rad="228600">
              <a:srgbClr val="fed46c">
                <a:alpha val="40000"/>
              </a:srgbClr>
            </a:glow>
            <a:reflection algn="bl" blurRad="12700" dir="5400000" dist="5000" endPos="30000" rotWithShape="0" stA="30000" sy="-100000"/>
            <a:softEdge rad="12708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</p:spTree>
  </p:cSld>
  <p:transition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300"/>
            </a:gs>
            <a:gs pos="100000">
              <a:srgbClr val="835e01">
                <a:alpha val="90196"/>
              </a:srgbClr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3"/>
          <p:cNvSpPr/>
          <p:nvPr/>
        </p:nvSpPr>
        <p:spPr>
          <a:xfrm rot="20825400">
            <a:off x="348840" y="1321200"/>
            <a:ext cx="8144640" cy="3747960"/>
          </a:xfrm>
          <a:prstGeom prst="rect">
            <a:avLst/>
          </a:prstGeom>
          <a:blipFill rotWithShape="0">
            <a:blip r:embed="rId1"/>
            <a:srcRect/>
            <a:stretch/>
          </a:blipFill>
          <a:ln w="22225">
            <a:solidFill>
              <a:srgbClr val="c0dae4"/>
            </a:solidFill>
            <a:prstDash val="sysDash"/>
            <a:round/>
          </a:ln>
          <a:effectLst>
            <a:glow rad="228600">
              <a:srgbClr val="d9d9d9">
                <a:alpha val="40000"/>
              </a:srgbClr>
            </a:glow>
            <a:innerShdw blurRad="63500" dir="16200000" dist="50800">
              <a:srgbClr val="000000">
                <a:alpha val="50000"/>
              </a:srgbClr>
            </a:innerShdw>
          </a:effectLst>
          <a:scene3d>
            <a:camera prst="orthographicFront"/>
            <a:lightRig dir="tl" rig="soft">
              <a:rot lat="0" lon="0" rev="0"/>
            </a:lightRig>
          </a:scene3d>
          <a:sp3d>
            <a:bevelT prst="relaxedInset"/>
          </a:sp3d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rig="threePt" dir="t"/>
            </a:scene3d>
            <a:sp3d contourW="25400" prstMaterial="matte">
              <a:bevelT prst="artDeco" w="25400" h="5588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fr-FR" sz="12000" spc="49" strike="noStrike">
                <a:solidFill>
                  <a:schemeClr val="accent2"/>
                </a:solidFill>
                <a:latin typeface="Arial"/>
              </a:rPr>
              <a:t>À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fr-FR" sz="12000" spc="49" strike="noStrike">
                <a:solidFill>
                  <a:schemeClr val="accent2"/>
                </a:solidFill>
                <a:latin typeface="Arial"/>
              </a:rPr>
              <a:t>BIENTÔT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5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52280"/>
            <a:ext cx="9143640" cy="18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7225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Dans cette image nous voyons une tente qui s’appelle </a:t>
            </a:r>
            <a:r>
              <a:rPr b="1" lang="en-US" sz="2400" spc="-1" strike="noStrike">
                <a:solidFill>
                  <a:srgbClr val="ff3737"/>
                </a:solidFill>
                <a:latin typeface="Arial"/>
              </a:rPr>
              <a:t>“Gers” 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qui se trouve en Mongolie.Elle est construit de bois et elle est couverte d’une toile.A l’interior vivent pasteures mongols et ses familles.Ces tentes se trouve en Mongolie de plusieures anne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2" descr="http://www.shelterpub.com/_wonderful_houses/_718/p02-03.jpg"/>
          <p:cNvPicPr/>
          <p:nvPr/>
        </p:nvPicPr>
        <p:blipFill>
          <a:blip r:embed="rId1"/>
          <a:stretch/>
        </p:blipFill>
        <p:spPr>
          <a:xfrm>
            <a:off x="228600" y="2133720"/>
            <a:ext cx="8686440" cy="4899240"/>
          </a:xfrm>
          <a:prstGeom prst="rect">
            <a:avLst/>
          </a:prstGeom>
          <a:ln w="0">
            <a:noFill/>
          </a:ln>
          <a:effectLst>
            <a:glow rad="101520">
              <a:srgbClr val="0070c0">
                <a:alpha val="60000"/>
              </a:srgbClr>
            </a:glow>
            <a:softEdge rad="112680"/>
          </a:effectLst>
        </p:spPr>
      </p:pic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6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ttp://www.shelterpub.com/_wonderful_houses/_718/p04-05.jpg"/>
          <p:cNvPicPr/>
          <p:nvPr/>
        </p:nvPicPr>
        <p:blipFill>
          <a:blip r:embed="rId1"/>
          <a:stretch/>
        </p:blipFill>
        <p:spPr>
          <a:xfrm>
            <a:off x="0" y="228600"/>
            <a:ext cx="9143640" cy="6400440"/>
          </a:xfrm>
          <a:prstGeom prst="rect">
            <a:avLst/>
          </a:prstGeom>
          <a:ln cap="rnd" w="127000">
            <a:solidFill>
              <a:srgbClr val="ffffff"/>
            </a:solidFill>
            <a:round/>
          </a:ln>
          <a:effectLst>
            <a:outerShdw algn="br" blurRad="76320" dir="10500123" dist="95041" kx="900000" rotWithShape="0" sx="97000" sy="23000">
              <a:srgbClr val="000000">
                <a:alpha val="20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p:transition>
    <p:pull dir="l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2120" y="152280"/>
            <a:ext cx="7924320" cy="14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8000"/>
          </a:bodyPr>
          <a:p>
            <a:pPr marL="354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Ces maisons se trouvent en Indonesie et ils sont faites de bambou et de l’herbe.A l’interior vivent les animaux au rez-de-chaussee et dessus du personn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http://www.shelterpub.com/_wonderful_houses/_718/p10-11.jpg"/>
          <p:cNvPicPr/>
          <p:nvPr/>
        </p:nvPicPr>
        <p:blipFill>
          <a:blip r:embed="rId1"/>
          <a:stretch/>
        </p:blipFill>
        <p:spPr>
          <a:xfrm>
            <a:off x="152280" y="1676520"/>
            <a:ext cx="8762760" cy="5181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p:transition>
    <p:cover dir="r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1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icture 2"/>
          <p:cNvSpPr/>
          <p:nvPr/>
        </p:nvSpPr>
        <p:spPr>
          <a:xfrm>
            <a:off x="1600200" y="0"/>
            <a:ext cx="6095520" cy="685764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2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7467120" cy="10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72252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En Tunisie se trouvent ces grottes qui abritent beaucoup de jens .Ils entrent a la maison par un tunnel.Les chambres  sunt situees autour de la “salle” principal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http://www.shelterpub.com/_wonderful_houses/_718/p22-23.jpg"/>
          <p:cNvPicPr/>
          <p:nvPr/>
        </p:nvPicPr>
        <p:blipFill>
          <a:blip r:embed="rId1"/>
          <a:stretch/>
        </p:blipFill>
        <p:spPr>
          <a:xfrm>
            <a:off x="228600" y="1600200"/>
            <a:ext cx="8534160" cy="5257440"/>
          </a:xfrm>
          <a:prstGeom prst="rect">
            <a:avLst/>
          </a:prstGeom>
          <a:ln w="0">
            <a:noFill/>
          </a:ln>
        </p:spPr>
      </p:pic>
    </p:spTree>
  </p:cSld>
  <p:transition>
    <p:cover dir="l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icture 2"/>
          <p:cNvSpPr/>
          <p:nvPr/>
        </p:nvSpPr>
        <p:spPr>
          <a:xfrm>
            <a:off x="0" y="304920"/>
            <a:ext cx="9143640" cy="632412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2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4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304920"/>
            <a:ext cx="7162560" cy="147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345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chemeClr val="accent3">
                    <a:lumMod val="20000"/>
                    <a:lumOff val="80000"/>
                  </a:schemeClr>
                </a:solidFill>
                <a:latin typeface="Arial"/>
              </a:rPr>
              <a:t>Cette maison se trouve en Afrique et elle est construite de terre et d’herbe seche sur deux etages.A l’interieur vivent des gens et des animaux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" descr="http://www.shelterpub.com/_wonderful_houses/_718/p30-31.jpg"/>
          <p:cNvPicPr/>
          <p:nvPr/>
        </p:nvPicPr>
        <p:blipFill>
          <a:blip r:embed="rId1"/>
          <a:stretch/>
        </p:blipFill>
        <p:spPr>
          <a:xfrm>
            <a:off x="304920" y="1946520"/>
            <a:ext cx="8534160" cy="49111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1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3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0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icture 2"/>
          <p:cNvSpPr/>
          <p:nvPr/>
        </p:nvSpPr>
        <p:spPr>
          <a:xfrm>
            <a:off x="0" y="304920"/>
            <a:ext cx="9143640" cy="6019560"/>
          </a:xfrm>
          <a:prstGeom prst="roundRect">
            <a:avLst>
              <a:gd name="adj" fmla="val 8594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reflection algn="bl" blurRad="12700" dir="5400000" dist="5000" endPos="28000" rotWithShape="0" stA="38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Technic">
  <a:themeElements>
    <a:clrScheme name="Solstice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Technic">
  <a:themeElements>
    <a:clrScheme name="Solstice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echnic</Template>
  <TotalTime>301</TotalTime>
  <Application>LibreOffice/7.4.7.2$Linux_X86_64 LibreOffice_project/40$Build-2</Application>
  <AppVersion>15.0000</AppVersion>
  <Words>11</Words>
  <Paragraphs>1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HOME</cp:lastModifiedBy>
  <dcterms:modified xsi:type="dcterms:W3CDTF">2011-12-11T16:35:45Z</dcterms:modified>
  <cp:revision>2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On-screen Show (4:3)</vt:lpwstr>
  </property>
  <property fmtid="{D5CDD505-2E9C-101B-9397-08002B2CF9AE}" pid="4" name="Slides">
    <vt:r8>10</vt:r8>
  </property>
</Properties>
</file>